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DB3-179B-41F9-A10C-2BF419EE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085-3924-45AB-BC62-B48FDDB5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336-13EB-4E44-940B-08F87689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F55-0905-4C50-9299-12E1E296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716-7897-4AD7-8D9F-F2C8DB1A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087-4EB7-4551-BA93-2BE04FC0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BD9-FEFD-4670-AB6E-99D4571B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759-508E-4BC2-8DA8-D6749FE3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9FD-B333-4E03-96FE-FA3276A8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B2C-277A-4FBA-A3E5-82BD62DA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DDC-D205-4FF4-BA05-322A949B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F88-0B1C-4AFD-AE43-8DE39DDD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6760-8BBA-4DBF-914E-ED6F52A644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262080" y="2225520"/>
            <a:ext cx="86137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tretch/>
        </p:blipFill>
        <p:spPr>
          <a:xfrm>
            <a:off x="1901880" y="3438360"/>
            <a:ext cx="165888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2908440" y="30240"/>
            <a:ext cx="26082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40_SERVER</cp:lastModifiedBy>
  <dcterms:modified xsi:type="dcterms:W3CDTF">2012-03-17T06:19:35Z</dcterms:modified>
  <cp:revision>7</cp:revision>
  <dc:subject/>
  <dc:title>Презентация PowerPoint</dc:title>
</cp:coreProperties>
</file>